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4ADD-2FE6-464F-AD83-0825394B6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93BF-E3BC-4580-BEF5-41531460F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DB65-297B-4384-AD86-2F736B9A3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3B70-5FA9-4176-82C6-BB37A2A81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0F5D9-C957-48D3-8F14-76807DE1D1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80861-A6F5-4844-BE3B-0EC126B6F0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C294C-1913-4375-B5B2-DD70B225F8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7D487-C7FC-45FF-BE51-093F0537E2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DCE0A-A39C-40FF-ADAA-6D96A4C333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FA7D1-FFF3-4575-9D79-564F30BE82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D525E-AB5F-4FDB-8624-E777FD496C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D7FF3-5AB2-49B4-986F-F92C657E9F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C9983-DA92-4A61-9DA1-33A7DB3A23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1A023-1A0A-4DA9-8D03-B8497D736F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5846E-E268-4165-BF39-423BCEAE50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01693-D657-4B82-86D0-C2584FE00B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E1FA-531F-4B0A-AE7D-7BA03BED1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Charles Wilson</cp:lastModifiedBy>
  <cp:lastPrinted>2008-06-04T21:47:01Z</cp:lastPrinted>
  <dcterms:modified xsi:type="dcterms:W3CDTF">2008-06-05T21:29:01Z</dcterms:modified>
  <cp:revision>86</cp:revision>
  <dc:subject/>
  <dc:title>AT Basic System Example</dc:title>
</cp:coreProperties>
</file>