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EEDD-4D26-4581-9B42-6825EEE38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C7CE-2F4B-4B19-BC50-99CF498A0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BD62-779E-4893-B4E8-8CD65936C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6753-08AC-48B4-A881-BECDE520B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C6D8-EA80-48A5-9B5F-4DF809C2B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1925A-63C5-43F2-923A-35263CF13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07F58-D559-4EBB-B8C1-DE7BA3BB3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82460-B0D8-4694-B581-D07BFE9D6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DE794-7D69-419B-AF93-04FB1CC22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3B477-9489-4DA4-8B0F-440B583D03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0EC0A-5B8C-4E0F-A847-7DE8926FD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5FAD4-7B33-4B3D-B0ED-6D15D56C6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83E8-E7AE-4D60-B5EE-1A3C57531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8AA6F-7CEA-4715-97D2-2E42EF200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F851E-31EB-4A4C-96E4-8CA782A11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4484-8687-4482-A995-8AF1D026B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0B430-C00C-4753-A36B-572C11244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9065-2BD8-4B44-8108-2E4900A04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160" y="863640"/>
            <a:ext cx="5904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3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06360" y="860400"/>
            <a:ext cx="57373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7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8-06-04T21:41:17Z</dcterms:modified>
  <cp:revision>88</cp:revision>
  <dc:subject/>
  <dc:title>AT Basic System Example</dc:title>
</cp:coreProperties>
</file>