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E13A-1DFB-4004-BC3B-853786501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1E53-692E-4814-8111-F767A2E77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7EF6-6115-48B2-B21C-BED32F4B2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5DCE-99E6-44A6-856B-AB8DF17CD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61F6-7DAB-4A84-9BE4-F0E1758FA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B80CA-7CCE-48D0-8B24-CEBA97234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B802-F257-450E-99BA-3F353EBD06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3CFDF-805E-4DDF-9E47-3BCF0CD96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0C774-C966-4E7A-9131-39E62E55E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470D7-0D6C-4E82-B8CF-9B448CFE8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D552-081C-4B41-981C-BBA0D6063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C537-A57E-4A3C-BC55-D107829C9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3BC4-9ED4-4365-9E85-C039AC030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D0411-236E-4DDB-BE17-7E952A395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B7E09-DE73-43A2-89CA-7155C73CA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ED1C-0752-4FD9-A9DE-294180A37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2F58-A70B-4F95-BE72-5FB4EA3A7E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7DED-3A2A-4315-917D-41424616B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2180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dcterms:modified xsi:type="dcterms:W3CDTF">2008-06-04T19:47:11Z</dcterms:modified>
  <cp:revision>83</cp:revision>
  <dc:subject/>
  <dc:title>AT Basic System Example</dc:title>
</cp:coreProperties>
</file>