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A883E-7B9F-41F1-BFFD-030C4033E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FB2BD-C37F-419F-8727-CB8376107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2FB75-4439-4D40-AEDD-790D88EAE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76FAE-020E-4044-85F6-DD754295D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F8CC4-EBDC-42A0-8544-EB2D87210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1964C-9B9E-420B-BA5A-E633C47E0B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DF41E-0292-40D7-BC9A-C5A75A1D43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C3FB4-0D5D-410B-94AD-71BBEE58B9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EBADD-B12D-4C78-8E8E-15B38CA886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AFA2E-AEA7-42AD-91C3-CAD182BBC1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E6793-2DB2-43BA-B292-464D4717B4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F4266-FAB0-4862-A5C5-A30388AE5D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7E7C0-759A-4144-8D53-BCF7278881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CA6F4-60DB-4C16-995D-3ECE92148C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32391-7D62-4FCD-8793-FD4100D38B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F6384-90C0-4E70-B725-46F8283F1A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48A15-4372-419D-BF49-0A18E02B79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12FD6-9619-46DC-8FD5-83B90396B8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47:01Z</cp:lastPrinted>
  <dcterms:modified xsi:type="dcterms:W3CDTF">2008-06-04T22:13:32Z</dcterms:modified>
  <cp:revision>84</cp:revision>
  <dc:subject/>
  <dc:title>AT Basic System Example</dc:title>
</cp:coreProperties>
</file>