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66AE-A842-4499-A46A-10B912299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D1B2-C106-4552-AB6B-2D58E9CE9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B75E-CB84-4CF7-B4DE-1C4F67561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092E-0DBD-4677-AB17-418781A01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3A21-2E21-4123-A4FA-A71E2129F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B2711-2A91-41F1-8806-A4B7E784B6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CD235-6973-4680-ADE4-F2EC077FAA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D8ACA-B523-4351-9067-38C9098F5D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47CE2-020A-42F4-BBB7-2568A53001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B158D-059F-4E53-9AB1-9606316DB9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85041-0546-4DB4-8141-BC455E7C76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6F793-B98C-4917-AED3-7AD4B68C2E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12CEF-D23B-4B5D-8E61-62EC26F0B7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C5C47-BB16-4531-8B63-717621174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E818C-9124-4BA0-8F85-21CAB6D9A1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C18A7-C4F6-4B0F-ADC5-379108541A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9E509-3EF9-463C-BAE8-3BEAC199F7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6978-74D0-4258-BCE6-1C6C1F40D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Jack Donovan</cp:lastModifiedBy>
  <dcterms:modified xsi:type="dcterms:W3CDTF">2009-05-04T21:26:45Z</dcterms:modified>
  <cp:revision>87</cp:revision>
  <dc:subject/>
  <dc:title>AT Basic System Example</dc:title>
</cp:coreProperties>
</file>