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19113-AB17-47E9-9DC7-CD5FE0F69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5B92E-CD17-4030-8978-8961ED544E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CA7EA-DF34-44F0-987C-B396F44E84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76D3D-B975-4E77-9367-1B03C8131A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8D872-15CD-4138-8C18-9E9AB858F0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27197-1C85-476F-BA74-5CA2CE1A6D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6D6AC-2390-4B26-926C-60CCE076A8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A9012-4436-45A8-8055-3ED83325A2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32212-7792-44BC-BA44-AA7333C22C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6C2F1-F7FF-40C7-9890-C9C40A7363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FE29D-5559-4535-87BB-6E6E2F27C4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63A68-F7DB-49BF-8973-9746D73774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9F060-08F0-4524-9326-79EA8A137D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EC4C2-69A6-4D57-BE7D-7101117648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7811F-1733-4F89-AE2C-AADEC9EEC0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B01825-4C5C-4395-A7FE-02FE9F8C4B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178C4-04E9-475C-8B20-A49A64548D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F7A2C-187F-48A0-8A3E-AE8130483D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18F2F-9B9E-4A62-AAEA-084F6B7C1A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E8428-A88A-4F2D-ADD5-F9097E01E3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8F9FB-160A-4E3E-9EBD-8605D46AB2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7D4C2-B7C1-4F74-8A6A-04F690132C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6C62C-3520-4114-A2A6-3B7C01A327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A230B-B7A9-40BC-818B-651E6A96B8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096AC-F3C8-49AC-9FAC-D04B4CAE3F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9982D6-9EFE-40B2-B9A8-92601DCC9E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82247-44EF-4494-AAE8-56FFBF52A6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ADDDB-51F7-4779-8DAE-5973E7E831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C7175-3380-49FA-98A2-4EC2495400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11751-951D-4E42-B2A4-882204F0B1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9210B-F9EF-4420-8574-865EF327C9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1A0AF-9695-411A-A113-209537F298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DABBF-23C5-4B6C-84E0-62453E7E85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BB65D-C704-4A69-B4F8-4D347B3779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316DD-C8F2-4F46-9BF2-13B95B3B35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D75A9-7B0C-4B8A-96ED-C2A9E199E8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10D8A-22A5-4E4E-8CD0-EF365413CC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D899D-B969-417D-AE14-01D707EB1C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26A7A-4A27-4A97-ACD5-9843767FF6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3FD66-001F-4173-A13C-7190764D4E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12546-B150-473A-BDC2-64BC77805F0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8BF65-78E2-49F1-BEFA-8A66FB9F1D0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1101C-09FD-4874-9C1A-972D68E3F65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886FC-CBA3-4299-AFD8-6FA8AF981BB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80D47-5AC9-418F-B9A9-590B10AEF8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8B014-A875-4185-BE60-0F5C544101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52094-F128-43BC-B5DA-1A692265BF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5E807-B7CB-447B-B323-CA176E19D9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61DD1-CA8F-40EF-B17F-015DC71A3DD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C5D19-B08C-4BEF-9AC1-0C0BE2844C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EC20C-2D75-466A-9823-57B885950FE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586EC-FFC5-426B-A398-1143A6B0C36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719D4-8C40-45DA-86B4-9D933148DB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EFC13-7EBB-4BFF-A0E4-49BB1CBFB4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D2F48-0A5F-4ED9-A775-3348B27AE2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51FA7-9CC4-4FC8-BFB0-4A18F5389B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4316D-213A-402C-BA89-695A1B54F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03CCA-217B-4505-A62B-159780403D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AB947-892B-46F5-B034-E77C0D32B4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29879-852E-425D-B48D-F92A3BB89E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C5967ACD-ED62-480B-8266-81F46519B6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Tracing Parameter Activity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doubl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racing Parameter Activ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se the parameter creation callback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Report the creation and modification of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3"/>
          <p:cNvSpPr/>
          <p:nvPr/>
        </p:nvSpPr>
        <p:spPr>
          <a:xfrm>
            <a:off x="609480" y="373392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4"/>
          <p:cNvSpPr/>
          <p:nvPr/>
        </p:nvSpPr>
        <p:spPr>
          <a:xfrm>
            <a:off x="6095880" y="373392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8"/>
          <p:cNvSpPr/>
          <p:nvPr/>
        </p:nvSpPr>
        <p:spPr>
          <a:xfrm>
            <a:off x="457200" y="1066680"/>
            <a:ext cx="800100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itialize and register global broker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register_broker(new cci_utils::broker(“My Global Broker”));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class (which registers various callbacks to trace cci-parameters 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activities)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ter, 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_inst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                                    // A simple C++ Class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_owner(“param_owner”)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// 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Owner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40"/>
          <p:cNvSpPr/>
          <p:nvPr/>
        </p:nvSpPr>
        <p:spPr>
          <a:xfrm>
            <a:off x="3733920" y="2666880"/>
            <a:ext cx="1752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.cp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8" name="Straight Arrow Connector 43"/>
          <p:cNvCxnSpPr>
            <a:stCxn id="187" idx="2"/>
            <a:endCxn id="183" idx="0"/>
          </p:cNvCxnSpPr>
          <p:nvPr/>
        </p:nvCxnSpPr>
        <p:spPr>
          <a:xfrm flipH="1">
            <a:off x="2057040" y="3047760"/>
            <a:ext cx="2553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Straight Arrow Connector 45"/>
          <p:cNvCxnSpPr>
            <a:stCxn id="187" idx="2"/>
            <a:endCxn id="184" idx="0"/>
          </p:cNvCxnSpPr>
          <p:nvPr/>
        </p:nvCxnSpPr>
        <p:spPr>
          <a:xfrm>
            <a:off x="4610160" y="3047760"/>
            <a:ext cx="28202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Rectangle 46"/>
          <p:cNvSpPr/>
          <p:nvPr/>
        </p:nvSpPr>
        <p:spPr>
          <a:xfrm>
            <a:off x="228600" y="4267080"/>
            <a:ext cx="4267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few 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int&gt;    *      int_param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float&gt; *     float_param;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ake changes to their values during simul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Rectangle 47"/>
          <p:cNvSpPr/>
          <p:nvPr/>
        </p:nvSpPr>
        <p:spPr>
          <a:xfrm>
            <a:off x="4724280" y="4114800"/>
            <a:ext cx="41911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handle for the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lobal broker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callbacks for notifying creation of new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other callback by getting hold of the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handle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Straight Connector 28"/>
          <p:cNvSpPr/>
          <p:nvPr/>
        </p:nvSpPr>
        <p:spPr>
          <a:xfrm flipH="1">
            <a:off x="7237440" y="41148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Straight Connector 28"/>
          <p:cNvSpPr/>
          <p:nvPr/>
        </p:nvSpPr>
        <p:spPr>
          <a:xfrm>
            <a:off x="2286000" y="4191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ectangle 13"/>
          <p:cNvSpPr/>
          <p:nvPr/>
        </p:nvSpPr>
        <p:spPr>
          <a:xfrm>
            <a:off x="26668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2971800" y="1828800"/>
            <a:ext cx="58672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global broker 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originator observer_originator("observer"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broker_handle(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get_global_broker(observer_originator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2819520" y="3733920"/>
            <a:ext cx="624816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a callback to notify the creation of cci-parameters of the parameter_owner modules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m_broker.register_crea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bind(&amp;ex20_observer::config_new_param_callback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his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unnamed::_1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33"/>
          <p:cNvSpPr/>
          <p:nvPr/>
        </p:nvSpPr>
        <p:spPr>
          <a:xfrm>
            <a:off x="152280" y="91440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00600" y="1600200"/>
            <a:ext cx="3581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Various other callbacks registrati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2057400" y="2057400"/>
            <a:ext cx="7010280" cy="37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ithin the callback implementation of the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fig_new_param_callback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function, register other callback functions for monitoring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ad, 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activities on to the cci-parameter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// Get reference of newly created cci-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base_handle = m_broker.get_param_handle(param_handle.get_name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// Register pre-read, pre/post-write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read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read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ost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ost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743200" y="10666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28954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80880" y="1676520"/>
            <a:ext cx="44960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default value to the integer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  =  new cci::cnf::cci_param&lt;int&gt;(“int_param”, 10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4724280" y="3276720"/>
            <a:ext cx="37339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in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350532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380880" y="1752480"/>
            <a:ext cx="3048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 (arbitrary) new value to the </a:t>
            </a:r>
            <a:r>
              <a:rPr b="0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*int_param = 15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4648320" y="2362320"/>
            <a:ext cx="403848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write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st_write activity on the ‘int_param’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15"/>
          <p:cNvSpPr/>
          <p:nvPr/>
        </p:nvSpPr>
        <p:spPr>
          <a:xfrm>
            <a:off x="4191120" y="4419720"/>
            <a:ext cx="243828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75" y="2492"/>
                </a:moveTo>
                <a:lnTo>
                  <a:pt x="-5330" y="2492"/>
                </a:lnTo>
                <a:lnTo>
                  <a:pt x="-5330" y="-8688"/>
                </a:lnTo>
                <a:lnTo>
                  <a:pt x="8466" y="-21392"/>
                </a:lnTo>
              </a:path>
              <a:path w="21600" h="21600">
                <a:moveTo>
                  <a:pt x="-675" y="0"/>
                </a:moveTo>
                <a:lnTo>
                  <a:pt x="-675" y="216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re_read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 is called because value of the parameter is read within th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re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ost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380880" y="1676520"/>
            <a:ext cx="5029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reate and set default value to the float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  =  new cci::cnf::cci_param&lt;int&gt;(“float_param”, 12.345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4724280" y="3276720"/>
            <a:ext cx="38862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floa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365760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5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0_Tracing_Parameter_Activity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Creating new integer type cci-parameter with default value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Setting new value to the 'int' type param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Creating new 'double' type cci-parameter with default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1:25:28Z</dcterms:modified>
  <cp:revision>82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1:25:27Z</vt:lpwstr>
  </property>
  <property fmtid="{D5CDD505-2E9C-101B-9397-08002B2CF9AE}" pid="5" name="TitusGUID">
    <vt:lpwstr>c510a3f5-05aa-41bf-bec3-42483cac079d</vt:lpwstr>
  </property>
</Properties>
</file>